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8037-6B42-48FF-AFC1-B2B802B8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00CF-4A65-4B73-AF7C-483FF1E9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573A-7AD2-4FF4-94D1-158561D0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3441-8A03-4E73-88D3-9CAD9B4F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D7B9-4EDF-4BF8-ABAF-EEC3C505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28F5-BCBB-4D0A-BB84-83738A99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FA24-E67A-42C7-BBE2-5C6A3FD9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584E-D123-46D8-BD3D-261F1285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8DF2-22BE-4D53-AC2B-71CDE449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9234-FE73-4177-9678-64A5986C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8415-A171-4CD5-815C-163FE021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CC06-853D-4E2F-9A90-FD363C8B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C418-D3EF-4A28-B59E-0B85EFB53659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371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rabaya koştular çocuklar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 çayı şekersiz içerim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rıyoruz yıllardır onu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men sofrayı hazırlamışsınız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rtık kime güveneceksin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0-21T20:27:49Z</dcterms:modified>
  <cp:revision>99</cp:revision>
  <dc:subject/>
  <dc:title>KONU 1</dc:title>
</cp:coreProperties>
</file>